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14F4-A1FB-4161-9A05-A3FEF7D5B5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5B67-ACD8-47F0-837D-0DA40D772E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F03A-04D3-4630-BAD4-796A24B1AC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C2F3-DCD9-4E6B-BFA5-A030076E0A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65A7-1FE2-4A69-9C30-54CBAEA031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3428-7EC0-4E83-A886-2525607CAA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7AA0-827B-4AD2-A2E4-067210CB34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A792-8897-4393-8464-81BC69F6EA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AC7F-D334-44B3-8065-9B2405CE0D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7373-8F79-4453-AD30-E9356938F9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BA74-4E90-4D2D-A3EF-AE0DE50FFD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8144-1913-4F17-B0ED-C9CF8EF2F7B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E608-35DD-446C-BA24-898AFFC81C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4655-3BFA-4F08-B82F-B6A4052795A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CB25-2B51-4721-B692-2F594E9795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4C3E-A291-4EFB-81E3-351D9C79DC9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0710-E7D1-4CBE-BB8F-9816018BB8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AF1D-505F-4584-95B2-F7DD50E323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6BEA-924D-4670-B54D-29EB56A8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4D43-9696-4F37-AC8B-DE07CF3F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2129-AA50-4EC6-8B0B-3ACE7650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298-949A-4AC1-B270-E7712D1D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F82C-7387-4CA1-BEBA-3C4D4C33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4ED7-2D8F-4EED-9756-50C57AB5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A5DB-E092-401D-B8A1-3D9AA424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27FF-684D-417F-8E99-151A34BA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7060-D795-4E9F-B7A4-F1128FEA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78A5-1BB8-45E0-B053-3898AA7B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F1EE-A754-4786-ABE4-57A7B5F0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6788-CC2A-4DCF-8218-C7AE55C9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C584-556A-45F0-BE28-31E60854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317E-BAAF-4BC7-911D-04FB940B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0DD2-0E47-4D4E-BA8B-39DE1CD1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D642-BE8A-42EF-B787-52266EED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6695-523E-4154-8233-870C41F2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9CBC90-BEE8-44F0-BF1D-16611690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02D42-FD77-4993-AA8E-EF6976CF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4A55A3-BE44-4D2F-A7CE-096CF7DB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48D046-8975-45BB-801C-096A629C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A218B5-1556-48D1-AA14-BCF69CF3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2E92-1AB1-407A-93E6-5E7D1F0C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387E6D-7397-4B49-B184-171348EC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9277E-2315-470C-BDEF-BAB811D5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30A514-5CF7-4681-9F83-0773A658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1B648-07D3-4001-A04D-EC6A19AD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80F954-333F-47B2-9CDB-8A6F239C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D9E68-DBCB-4622-98C8-35AB137C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3426A9-615C-4182-903B-29B683F3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435D4E-2BD9-452C-B291-A0021B77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78871B-A76E-4E8D-94EA-31F5C311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6704C1-2F30-4915-BA8C-405A62FA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F15B-C2DF-4F86-9EB7-87A26184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853C42-676D-47B7-973A-AA2C6C0A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A65A1C-4252-4FB0-A0BC-F61206E4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1304A0-1EFD-4A8A-9276-E4AD7CDB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46DBB4-0AAB-4BBB-A072-C8135161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1A3320-35EE-4F7B-B3A2-B2971B11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9B059E-D684-48E2-A082-9E0AD4EE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6381FB-40E0-4ED0-972B-6525FADA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EA2A8F-F2D9-428E-959A-31231AA0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EB5166-B74A-44CA-9EFD-144499E9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B6329C-B823-4CA8-8660-1BE49880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3B5F-AE7A-44C8-AB42-740B2EAD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7CF94F-A1D7-4413-86F4-FFB703C1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5FC405-0361-421D-B7FC-38D0C01F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BFC987-4D10-4795-B945-C34E3931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5BC012-F839-4C53-81F3-929D3AEE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C34E19-ACF0-40F5-847F-A0BA34EC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BE218E-9F70-4EE3-AA7C-4023B651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426534-CFBF-4243-9B1B-A38E6707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0427C0-C1ED-4BB7-9669-BB5F3F5E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55CAE7-6258-4C8B-A2A2-6C1D2066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C405C7-BBA8-4E26-9B0F-AC5391C7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FC90-4D9B-49A6-8E0D-93DFBB62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CD02EF-83BE-4F01-B956-811F4976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84982-A398-4D81-A652-6C90E7E4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EB505-B952-4540-ADEA-D0804195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B29E6-7F39-401E-9833-A2898B61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9FDE9-4004-4856-8848-137ACD10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74575-62D0-4B16-817B-49057B42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1EA91-F7E1-4264-A38F-54152637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3A006-1721-4B34-B8CA-8632CD51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C2B28-0A78-49F8-8BA5-E44835CD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01C74-C5B3-410A-B8DC-A7E969E2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C92C-9E76-45C9-B7A8-C50853AF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7F4F9-D52D-4830-B7CD-0C0F87B4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E13C7-8803-4370-847D-B851B37F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CF568-A859-4B7C-86DA-41717BAE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9A7E7A-07CD-422E-912E-D2D8EE2B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41194F-81BE-4255-A09A-70786095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E8D2F2-23BF-45C0-B267-A7F3A3EC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BAEB01-072B-4CE1-A696-E868BE0D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85B9FF-D39A-4DC9-B637-86571F1E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14648A-CDA4-4E97-AD6E-62A96124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9B5D1B-883B-4C16-A523-256638D8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248D-0DA6-44D8-9BE0-4924345C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A2EC4F-8353-4A77-B0E7-9A310CD8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7B376F-2807-447D-A4BD-B2BE2B3A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53E4CA-3916-40F1-AB96-854A4C34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1EDA00-3D31-42A0-A8D1-49A71161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6CAAB7-A52C-40A5-A9E8-B054B180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7963E-B70D-432B-BCD3-73601B35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620E7-4804-44E4-8D92-D018CE02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D3675-E6C6-499B-9B70-02313E7A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94300-00F6-4756-9790-51A97403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E3A5B-7A56-42B8-A70D-A43844A7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1848-D810-4631-ADBB-C5654B92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D9C7B-7502-4C0A-AF6C-7CA8B675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6C10C-2A4A-4C03-B19F-A2A89138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6B558-7FD0-498F-8671-CB095FF9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1BFC6-CF57-44E7-B03F-6437ABA2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AB319-CB4E-4EF2-B39F-8BEF3809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56746-FA9D-4F2C-8322-82D97242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0746B-7C98-45D9-8932-9CD35334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FE8F-3FE7-4D2B-9C4B-35EFF7D078A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C033-7AF2-479E-B496-CBF79575D365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B7A6-FE85-44AE-8838-8EC54D7463A0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BB98-E188-445D-AABD-01D1EC8E39D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3242-ECA6-4240-B797-7907A80225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D26C-1983-4975-BFB2-4F73DAD7B1B1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3C68-6860-45C3-88F9-116B28CC60BB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E4AA-A146-46C7-B4CC-49E21AC583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Français 3 - Introduction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w Cen MT"/>
              </a:rPr>
              <a:t>Comment est-il? Comment est-elle?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5" descr="200px-WillFerrell"/>
          <p:cNvPicPr/>
          <p:nvPr/>
        </p:nvPicPr>
        <p:blipFill>
          <a:blip r:embed="rId1"/>
          <a:stretch/>
        </p:blipFill>
        <p:spPr>
          <a:xfrm>
            <a:off x="2209680" y="1905120"/>
            <a:ext cx="4648320" cy="455616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ill Farrell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ady Gaga, comment est-elle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17" name="Picture 1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816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Jimmy Fallon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19" name="Picture 1" descr=""/>
          <p:cNvPicPr/>
          <p:nvPr/>
        </p:nvPicPr>
        <p:blipFill>
          <a:blip r:embed="rId1"/>
          <a:stretch/>
        </p:blipFill>
        <p:spPr>
          <a:xfrm>
            <a:off x="1270080" y="1295280"/>
            <a:ext cx="6350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arack Obama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05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5000" y="-360"/>
            <a:ext cx="889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im Kardashian, comment est-elle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514600" y="1028880"/>
            <a:ext cx="38862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Justin Timberlake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5" name="Picture 1" descr=""/>
          <p:cNvPicPr/>
          <p:nvPr/>
        </p:nvPicPr>
        <p:blipFill>
          <a:blip r:embed="rId1"/>
          <a:stretch/>
        </p:blipFill>
        <p:spPr>
          <a:xfrm>
            <a:off x="2438280" y="1473120"/>
            <a:ext cx="381024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riana Grande, comment est-elle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7" name="Picture 1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om Brady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9" name="Picture 1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19112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rtman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31" name="Picture 5" descr="cartman"/>
          <p:cNvPicPr/>
          <p:nvPr/>
        </p:nvPicPr>
        <p:blipFill>
          <a:blip r:embed="rId1"/>
          <a:stretch/>
        </p:blipFill>
        <p:spPr>
          <a:xfrm>
            <a:off x="2133720" y="1981080"/>
            <a:ext cx="50292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évisons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Comment es-tu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14400" y="571464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AVOIR + # ANS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7" descr="nerd"/>
          <p:cNvPicPr/>
          <p:nvPr/>
        </p:nvPicPr>
        <p:blipFill>
          <a:blip r:embed="rId1"/>
          <a:stretch/>
        </p:blipFill>
        <p:spPr>
          <a:xfrm>
            <a:off x="2536920" y="1752480"/>
            <a:ext cx="4140000" cy="510552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8"/>
          <p:cNvSpPr/>
          <p:nvPr/>
        </p:nvSpPr>
        <p:spPr>
          <a:xfrm>
            <a:off x="5867280" y="1447920"/>
            <a:ext cx="2971800" cy="1523880"/>
          </a:xfrm>
          <a:prstGeom prst="wedgeRoundRectCallout">
            <a:avLst>
              <a:gd name="adj1" fmla="val -65759"/>
              <a:gd name="adj2" fmla="val 175208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Bonjou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’ai 18 an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914400" y="579132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# + </a:t>
            </a:r>
            <a:r>
              <a:rPr b="0" i="1" lang="fr-FR" sz="2900" spc="-1" strike="noStrike">
                <a:solidFill>
                  <a:srgbClr val="000000"/>
                </a:solidFill>
                <a:latin typeface="Tw Cen MT"/>
              </a:rPr>
              <a:t>a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"/>
          <p:cNvSpPr/>
          <p:nvPr/>
        </p:nvSpPr>
        <p:spPr>
          <a:xfrm>
            <a:off x="228600" y="1676520"/>
            <a:ext cx="3352680" cy="144756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on â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5" descr="200px-WillFerrell"/>
          <p:cNvPicPr/>
          <p:nvPr/>
        </p:nvPicPr>
        <p:blipFill>
          <a:blip r:embed="rId1"/>
          <a:stretch/>
        </p:blipFill>
        <p:spPr>
          <a:xfrm>
            <a:off x="2209680" y="1905120"/>
            <a:ext cx="4648320" cy="455616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ill Farrell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ady Gaga, comment est-elle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36" name="Picture 1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816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Jimmy Fallon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38" name="Picture 1" descr=""/>
          <p:cNvPicPr/>
          <p:nvPr/>
        </p:nvPicPr>
        <p:blipFill>
          <a:blip r:embed="rId1"/>
          <a:stretch/>
        </p:blipFill>
        <p:spPr>
          <a:xfrm>
            <a:off x="1346040" y="1295280"/>
            <a:ext cx="6350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arack Obama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05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5000" y="-360"/>
            <a:ext cx="889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im Kardashian, comment est-elle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14600" y="1028880"/>
            <a:ext cx="38862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Justin Timberlake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4" name="Picture 1" descr=""/>
          <p:cNvPicPr/>
          <p:nvPr/>
        </p:nvPicPr>
        <p:blipFill>
          <a:blip r:embed="rId1"/>
          <a:stretch/>
        </p:blipFill>
        <p:spPr>
          <a:xfrm>
            <a:off x="2438280" y="1473120"/>
            <a:ext cx="381024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riana Grande, comment est-elle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6" name="Picture 1" descr=""/>
          <p:cNvPicPr/>
          <p:nvPr/>
        </p:nvPicPr>
        <p:blipFill>
          <a:blip r:embed="rId1"/>
          <a:stretch/>
        </p:blipFill>
        <p:spPr>
          <a:xfrm>
            <a:off x="2362320" y="1320840"/>
            <a:ext cx="38098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om Brady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8" name="Picture 1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03884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rtman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50" name="Picture 5" descr="cartman"/>
          <p:cNvPicPr/>
          <p:nvPr/>
        </p:nvPicPr>
        <p:blipFill>
          <a:blip r:embed="rId1"/>
          <a:stretch/>
        </p:blipFill>
        <p:spPr>
          <a:xfrm>
            <a:off x="2133720" y="1981080"/>
            <a:ext cx="50292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Comment es-tu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4400" y="571464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NOU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7" descr="gm20--siamese-cat"/>
          <p:cNvPicPr/>
          <p:nvPr/>
        </p:nvPicPr>
        <p:blipFill>
          <a:blip r:embed="rId1"/>
          <a:stretch/>
        </p:blipFill>
        <p:spPr>
          <a:xfrm>
            <a:off x="2413080" y="1905120"/>
            <a:ext cx="4673520" cy="471492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0" y="2133720"/>
            <a:ext cx="2590920" cy="2743200"/>
          </a:xfrm>
          <a:prstGeom prst="wedgeRoundRectCallout">
            <a:avLst>
              <a:gd name="adj1" fmla="val 75120"/>
              <a:gd name="adj2" fmla="val 85648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’ai les yeux bleus. Miaou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914400" y="579132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</a:t>
            </a:r>
            <a:r>
              <a:rPr b="0" i="1" lang="fr-FR" sz="2900" spc="-1" strike="noStrike">
                <a:solidFill>
                  <a:srgbClr val="000000"/>
                </a:solidFill>
                <a:latin typeface="Tw Cen MT"/>
              </a:rPr>
              <a:t>les yeux 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__________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5486400" y="762120"/>
            <a:ext cx="3352680" cy="144756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a phys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7" descr="shorthair"/>
          <p:cNvPicPr/>
          <p:nvPr/>
        </p:nvPicPr>
        <p:blipFill>
          <a:blip r:embed="rId1"/>
          <a:stretch/>
        </p:blipFill>
        <p:spPr>
          <a:xfrm>
            <a:off x="1219320" y="17524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Comment êtes-vou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579096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</a:t>
            </a:r>
            <a:r>
              <a:rPr b="0" i="1" lang="fr-FR" sz="2900" spc="-1" strike="noStrike">
                <a:solidFill>
                  <a:srgbClr val="000000"/>
                </a:solidFill>
                <a:latin typeface="Tw Cen MT"/>
              </a:rPr>
              <a:t>les cheveux _________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6567480" y="3124080"/>
            <a:ext cx="2590920" cy="2057400"/>
          </a:xfrm>
          <a:prstGeom prst="wedgeRoundRectCallout">
            <a:avLst>
              <a:gd name="adj1" fmla="val -98351"/>
              <a:gd name="adj2" fmla="val 62226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’ai les cheveux cour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5562720" y="304920"/>
            <a:ext cx="3352680" cy="144756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a phys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7" descr="the_happy_carpenters_2nd_cousin"/>
          <p:cNvPicPr/>
          <p:nvPr/>
        </p:nvPicPr>
        <p:blipFill>
          <a:blip r:embed="rId1"/>
          <a:stretch/>
        </p:blipFill>
        <p:spPr>
          <a:xfrm>
            <a:off x="3048120" y="1676520"/>
            <a:ext cx="3443040" cy="518148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Comment es-tu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579096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</a:t>
            </a:r>
            <a:r>
              <a:rPr b="0" i="1" lang="fr-FR" sz="2900" spc="-1" strike="noStrike">
                <a:solidFill>
                  <a:srgbClr val="000000"/>
                </a:solidFill>
                <a:latin typeface="Tw Cen MT"/>
              </a:rPr>
              <a:t>les cheveux _________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304920" y="1752480"/>
            <a:ext cx="2590560" cy="2057400"/>
          </a:xfrm>
          <a:prstGeom prst="wedgeRoundRectCallout">
            <a:avLst>
              <a:gd name="adj1" fmla="val 100120"/>
              <a:gd name="adj2" fmla="val 109569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’ai les cheveux long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5486400" y="228600"/>
            <a:ext cx="3352680" cy="144792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a phys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7" descr="43006056_913807e81d"/>
          <p:cNvPicPr/>
          <p:nvPr/>
        </p:nvPicPr>
        <p:blipFill>
          <a:blip r:embed="rId1"/>
          <a:stretch/>
        </p:blipFill>
        <p:spPr>
          <a:xfrm>
            <a:off x="1371600" y="1712880"/>
            <a:ext cx="7315200" cy="491652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Comment es-tu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579096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</a:t>
            </a:r>
            <a:r>
              <a:rPr b="0" i="1" lang="fr-FR" sz="2900" spc="-1" strike="noStrike">
                <a:solidFill>
                  <a:srgbClr val="000000"/>
                </a:solidFill>
                <a:latin typeface="Tw Cen MT"/>
              </a:rPr>
              <a:t>les cheveux _________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6095880" y="1752480"/>
            <a:ext cx="2590920" cy="2057400"/>
          </a:xfrm>
          <a:prstGeom prst="wedgeRoundRectCallout">
            <a:avLst>
              <a:gd name="adj1" fmla="val -79287"/>
              <a:gd name="adj2" fmla="val 96324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’ai les cheveux roux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5486400" y="152280"/>
            <a:ext cx="3352680" cy="144792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a phys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7" descr="yao_ming"/>
          <p:cNvPicPr/>
          <p:nvPr/>
        </p:nvPicPr>
        <p:blipFill>
          <a:blip r:embed="rId1"/>
          <a:stretch/>
        </p:blipFill>
        <p:spPr>
          <a:xfrm>
            <a:off x="2286000" y="1828800"/>
            <a:ext cx="4459320" cy="78487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Comment êtes-vou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579096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ÊTRE + ADJECTIF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AutoShape 5"/>
          <p:cNvSpPr/>
          <p:nvPr/>
        </p:nvSpPr>
        <p:spPr>
          <a:xfrm>
            <a:off x="6324480" y="4191120"/>
            <a:ext cx="2590920" cy="1523880"/>
          </a:xfrm>
          <a:prstGeom prst="wedgeRoundRectCallout">
            <a:avLst>
              <a:gd name="adj1" fmla="val -75490"/>
              <a:gd name="adj2" fmla="val -146773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e suis gran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04920" y="1828800"/>
            <a:ext cx="2590560" cy="1523880"/>
          </a:xfrm>
          <a:prstGeom prst="wedgeRoundRectCallout">
            <a:avLst>
              <a:gd name="adj1" fmla="val 49254"/>
              <a:gd name="adj2" fmla="val 104606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e suis peti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5486400" y="380880"/>
            <a:ext cx="3352680" cy="144792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a phys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évisons! – Le verbe </a:t>
            </a:r>
            <a:r>
              <a:rPr b="0" i="1" lang="en-US" sz="4400" spc="-1" strike="noStrike">
                <a:solidFill>
                  <a:srgbClr val="775f55"/>
                </a:solidFill>
                <a:latin typeface="Tw Cen MT"/>
              </a:rPr>
              <a:t>AVOIR (to have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TextBox 1"/>
          <p:cNvSpPr/>
          <p:nvPr/>
        </p:nvSpPr>
        <p:spPr>
          <a:xfrm>
            <a:off x="762120" y="198108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J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Box 4"/>
          <p:cNvSpPr/>
          <p:nvPr/>
        </p:nvSpPr>
        <p:spPr>
          <a:xfrm>
            <a:off x="762120" y="26449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t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Box 5"/>
          <p:cNvSpPr/>
          <p:nvPr/>
        </p:nvSpPr>
        <p:spPr>
          <a:xfrm>
            <a:off x="762120" y="327672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Box 6"/>
          <p:cNvSpPr/>
          <p:nvPr/>
        </p:nvSpPr>
        <p:spPr>
          <a:xfrm>
            <a:off x="762120" y="39402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el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Box 7"/>
          <p:cNvSpPr/>
          <p:nvPr/>
        </p:nvSpPr>
        <p:spPr>
          <a:xfrm>
            <a:off x="762120" y="46483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Box 8"/>
          <p:cNvSpPr/>
          <p:nvPr/>
        </p:nvSpPr>
        <p:spPr>
          <a:xfrm>
            <a:off x="3886200" y="19810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no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9"/>
          <p:cNvSpPr/>
          <p:nvPr/>
        </p:nvSpPr>
        <p:spPr>
          <a:xfrm>
            <a:off x="3886200" y="2644920"/>
            <a:ext cx="146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vo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Box 10"/>
          <p:cNvSpPr/>
          <p:nvPr/>
        </p:nvSpPr>
        <p:spPr>
          <a:xfrm>
            <a:off x="3886200" y="3276720"/>
            <a:ext cx="10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i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Box 11"/>
          <p:cNvSpPr/>
          <p:nvPr/>
        </p:nvSpPr>
        <p:spPr>
          <a:xfrm>
            <a:off x="3886200" y="3940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el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Box 12"/>
          <p:cNvSpPr/>
          <p:nvPr/>
        </p:nvSpPr>
        <p:spPr>
          <a:xfrm>
            <a:off x="1066680" y="19810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Box 13"/>
          <p:cNvSpPr/>
          <p:nvPr/>
        </p:nvSpPr>
        <p:spPr>
          <a:xfrm>
            <a:off x="1219320" y="26449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Box 14"/>
          <p:cNvSpPr/>
          <p:nvPr/>
        </p:nvSpPr>
        <p:spPr>
          <a:xfrm>
            <a:off x="1143000" y="32796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Box 15"/>
          <p:cNvSpPr/>
          <p:nvPr/>
        </p:nvSpPr>
        <p:spPr>
          <a:xfrm>
            <a:off x="1600200" y="3940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Box 16"/>
          <p:cNvSpPr/>
          <p:nvPr/>
        </p:nvSpPr>
        <p:spPr>
          <a:xfrm>
            <a:off x="1447920" y="4651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Box 17"/>
          <p:cNvSpPr/>
          <p:nvPr/>
        </p:nvSpPr>
        <p:spPr>
          <a:xfrm>
            <a:off x="4876920" y="19810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av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Box 18"/>
          <p:cNvSpPr/>
          <p:nvPr/>
        </p:nvSpPr>
        <p:spPr>
          <a:xfrm>
            <a:off x="4876920" y="26449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ave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Box 19"/>
          <p:cNvSpPr/>
          <p:nvPr/>
        </p:nvSpPr>
        <p:spPr>
          <a:xfrm>
            <a:off x="4419720" y="32796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o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20"/>
          <p:cNvSpPr/>
          <p:nvPr/>
        </p:nvSpPr>
        <p:spPr>
          <a:xfrm>
            <a:off x="4876920" y="3940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o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21"/>
          <p:cNvSpPr/>
          <p:nvPr/>
        </p:nvSpPr>
        <p:spPr>
          <a:xfrm>
            <a:off x="685800" y="53341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Tw Cen MT"/>
              </a:rPr>
              <a:t>C’est le verbe </a:t>
            </a:r>
            <a:r>
              <a:rPr b="0" i="1" lang="fr-FR" sz="4000" spc="-1" strike="noStrike">
                <a:solidFill>
                  <a:srgbClr val="ff0000"/>
                </a:solidFill>
                <a:latin typeface="Tw Cen MT"/>
              </a:rPr>
              <a:t>h</a:t>
            </a:r>
            <a:r>
              <a:rPr b="0" i="1" lang="fr-FR" sz="4000" spc="-1" strike="noStrike">
                <a:solidFill>
                  <a:srgbClr val="660066"/>
                </a:solidFill>
                <a:latin typeface="Tw Cen MT"/>
              </a:rPr>
              <a:t>av</a:t>
            </a: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oir</a:t>
            </a:r>
            <a:r>
              <a:rPr b="0" i="1" lang="fr-FR" sz="4000" spc="-1" strike="noStrike">
                <a:solidFill>
                  <a:srgbClr val="000000"/>
                </a:solidFill>
                <a:latin typeface="Tw Cen MT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9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stru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availlez avec la personne à côté de vou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éez des descriptions des personnes suivant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ous pouvez mentioner des aspects de leur portrait physique et leur portrait mora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ous comprenez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ons-y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4-09-16T10:52:39Z</dcterms:modified>
  <cp:revision>84</cp:revision>
  <dc:subject/>
  <dc:title>Allez, viens! – Level 2</dc:title>
</cp:coreProperties>
</file>